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7AF1-4272-4425-9851-F3D7AB3D94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2484-B734-4DCB-B03A-16569B397A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013A-50FE-40CF-B465-474DB1FABC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9881-C736-41CC-A510-3D64A3C283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67F1-6A48-48D8-84C4-0F9CB9B7D8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5314-FC80-44CB-94D9-19FCA8935F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179D-31BB-46E9-A966-13AD4892E3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DC80-FBA4-4CF5-AE44-98E8C89C8B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0BD-D32E-4363-B186-C5ADD130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895-021F-43C6-BB72-3E1FA5F6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515-DF94-43EC-996D-13901C7C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7F3-5E39-4895-BF1E-D751B402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2478-646C-4AF1-8507-65F317AE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B86F-4D3D-4A0C-AE9F-F4C0F0BC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AEEB-1B15-4E9B-A4F7-EE541AF6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307A-7538-4687-97F3-8CA9E962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2BEA-6615-4779-A432-42028DAF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D3BD-1906-4904-BAFB-DE601277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6550-9C56-4016-8481-10EA6BA8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71C-4BC2-4385-BF3A-97BD7965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AE79-336E-4BDA-B7CC-3BDCE869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D578-0FB2-47AB-8103-A06AA07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2C7F-CB0F-4AF5-B380-D1D161F5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C653-D243-4EE6-A79C-677CD763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27E4-02FF-4A75-95D7-74539F8F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CF7E2-B722-4A4F-9884-E9DA135C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C95C-F02A-4769-A90E-94E0E492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AB48-A6A6-425D-A69D-B817133D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4857-0077-4018-9C35-B2A40CCF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E9B87-7E1D-4369-8BC9-D52853C6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D26-2EBE-44ED-AE45-D53F435B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1DB1A-2EDB-4908-B5ED-A6D8011B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FF55-0CE6-4581-8938-FB7ACE02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52D69-9147-4C80-AA1F-8E10E843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027D-011A-4F0B-9779-6765BFF9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0ABB9-9919-4597-A666-F8D90FCA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40531-544F-4611-BC3D-6E02AF89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2DDFB-B879-460D-BEE9-E5587D95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2D19-499D-47B7-880D-189591D4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C4CB8-887D-4DA4-90AA-3D817C9A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905F6-6952-4E4E-8C95-D5EAD4C1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1C0-27D2-4190-8A41-4F32D88E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BFAA2-D2FB-457D-B4AF-AD6DF280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94293-652B-4E06-9D77-756EF22C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3C73F-A123-4158-A35D-9F86371F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5C4B1-E46B-4901-A4B0-C8D540F4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AD791-497D-4543-8704-D54F2620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A05F6-C555-4B1D-9729-233DB49A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36F51-AF1B-4FB7-9D66-CF9A20AB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8DB80-FA0E-49A1-BA32-E2BB1EE0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5AE6E-6DEA-4D3C-B03E-4164D02B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59218-4CB3-42BC-AA03-2DE1F214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7A4-7CEC-4E73-B48F-6B99B618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F81DA-25FA-4ED8-84AC-8D673287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6847A-B029-4A98-87C2-288F3465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BCA40-4BF4-46AE-916A-ED7D2FCF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8B08D-E37D-4B22-8509-6639F490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694EC-39B1-4682-97D5-39CB175C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92901-8C95-4D16-939D-7A2B2670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9E01B-00A8-4A85-ADCE-71472CA8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EDA9E-8262-4FFC-A957-975F73EB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76564-B801-44B6-A524-B11C1B14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C4B03-C3F2-4EC0-BDE9-F97592C1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409-8857-4E51-8061-5F1E4F59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5B51D-113D-4FCA-A8D8-481CA31A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68B7-3074-4FC8-A1E2-22F08DD7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0C0-BD24-44B1-88E6-584E3A5A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650-809D-42D7-B04A-99F80D56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4A38-EFF1-4F43-BF85-5CB610D05C0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A4AC-DA66-43B8-88FD-9318337B2BF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EE4D-B628-4D67-8423-D5CE0FDDF4C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1637-52F5-46FF-BF6B-3450D123263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C0A7-5759-40E2-B420-E2864E9ABA1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16 ноября -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57160" y="3643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Verdana"/>
              </a:rPr>
              <a:t>Международный день толерантност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1"/>
          <p:cNvSpPr/>
          <p:nvPr/>
        </p:nvSpPr>
        <p:spPr>
          <a:xfrm rot="238200">
            <a:off x="3097080" y="1695600"/>
            <a:ext cx="3664080" cy="32526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леран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3"/>
          <p:cNvSpPr/>
          <p:nvPr/>
        </p:nvSpPr>
        <p:spPr>
          <a:xfrm flipH="1">
            <a:off x="4928760" y="1000080"/>
            <a:ext cx="1800" cy="928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7"/>
          <p:cNvSpPr/>
          <p:nvPr/>
        </p:nvSpPr>
        <p:spPr>
          <a:xfrm>
            <a:off x="6143760" y="3429000"/>
            <a:ext cx="114300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2"/>
          <p:cNvSpPr/>
          <p:nvPr/>
        </p:nvSpPr>
        <p:spPr>
          <a:xfrm>
            <a:off x="4815720" y="4944960"/>
            <a:ext cx="34920" cy="6271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7"/>
          <p:cNvSpPr/>
          <p:nvPr/>
        </p:nvSpPr>
        <p:spPr>
          <a:xfrm flipH="1" flipV="1">
            <a:off x="2285640" y="3429000"/>
            <a:ext cx="150012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22"/>
          <p:cNvSpPr/>
          <p:nvPr/>
        </p:nvSpPr>
        <p:spPr>
          <a:xfrm flipV="1">
            <a:off x="6300720" y="1499760"/>
            <a:ext cx="628560" cy="7635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25"/>
          <p:cNvSpPr/>
          <p:nvPr/>
        </p:nvSpPr>
        <p:spPr>
          <a:xfrm flipH="1" flipV="1">
            <a:off x="2928960" y="1499760"/>
            <a:ext cx="1285920" cy="10717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29"/>
          <p:cNvSpPr/>
          <p:nvPr/>
        </p:nvSpPr>
        <p:spPr>
          <a:xfrm flipH="1">
            <a:off x="3357720" y="4500000"/>
            <a:ext cx="642960" cy="5713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2"/>
          <p:cNvSpPr/>
          <p:nvPr/>
        </p:nvSpPr>
        <p:spPr>
          <a:xfrm>
            <a:off x="5929200" y="4500720"/>
            <a:ext cx="928800" cy="8571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лыбающееся лицо 44"/>
          <p:cNvSpPr/>
          <p:nvPr/>
        </p:nvSpPr>
        <p:spPr>
          <a:xfrm>
            <a:off x="4500720" y="3643200"/>
            <a:ext cx="914400" cy="928800"/>
          </a:xfrm>
          <a:prstGeom prst="smileyFace">
            <a:avLst>
              <a:gd name="adj" fmla="val 9282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50"/>
          <p:cNvSpPr/>
          <p:nvPr/>
        </p:nvSpPr>
        <p:spPr>
          <a:xfrm>
            <a:off x="4071960" y="642960"/>
            <a:ext cx="1785960" cy="98568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мириться с чужим мнение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51"/>
          <p:cNvSpPr/>
          <p:nvPr/>
        </p:nvSpPr>
        <p:spPr>
          <a:xfrm>
            <a:off x="6643800" y="714240"/>
            <a:ext cx="2071440" cy="9288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Терпимость к другим верования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52"/>
          <p:cNvSpPr/>
          <p:nvPr/>
        </p:nvSpPr>
        <p:spPr>
          <a:xfrm>
            <a:off x="6929280" y="2928960"/>
            <a:ext cx="1857600" cy="10717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права быть ин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53"/>
          <p:cNvSpPr/>
          <p:nvPr/>
        </p:nvSpPr>
        <p:spPr>
          <a:xfrm>
            <a:off x="714240" y="714240"/>
            <a:ext cx="2286000" cy="13575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меть понимать и принимать человека таким , каков он ес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54"/>
          <p:cNvSpPr/>
          <p:nvPr/>
        </p:nvSpPr>
        <p:spPr>
          <a:xfrm>
            <a:off x="357120" y="3000240"/>
            <a:ext cx="1914480" cy="914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меть проща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55"/>
          <p:cNvSpPr/>
          <p:nvPr/>
        </p:nvSpPr>
        <p:spPr>
          <a:xfrm>
            <a:off x="1071720" y="4786200"/>
            <a:ext cx="2342880" cy="914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Проявлять сострадание, милосерд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авая фигурная скобка 56"/>
          <p:cNvSpPr/>
          <p:nvPr/>
        </p:nvSpPr>
        <p:spPr>
          <a:xfrm>
            <a:off x="6929280" y="5214960"/>
            <a:ext cx="155880" cy="914400"/>
          </a:xfrm>
          <a:custGeom>
            <a:avLst/>
            <a:gdLst>
              <a:gd name="textAreaLeft" fmla="*/ 0 w 155880"/>
              <a:gd name="textAreaRight" fmla="*/ 5616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57"/>
          <p:cNvSpPr/>
          <p:nvPr/>
        </p:nvSpPr>
        <p:spPr>
          <a:xfrm>
            <a:off x="6643800" y="5000760"/>
            <a:ext cx="1928880" cy="10573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прав други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58"/>
          <p:cNvSpPr/>
          <p:nvPr/>
        </p:nvSpPr>
        <p:spPr>
          <a:xfrm>
            <a:off x="3857760" y="5572080"/>
            <a:ext cx="1985760" cy="8571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человеческого досто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8d3e"/>
                </a:solidFill>
                <a:latin typeface="Verdana"/>
              </a:rPr>
              <a:t>Пропущенные слова : дружба, уважение, расположение, человеколюбие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мы хотим, чтобы нас уважали, то мы также должны иметь _______ к другим людям.( Кант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крет успеха в обществе прост: нужна сердечность и _______ к другим.(Эмерсо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мы хотим быть любимы, то надо также проявить _________(Кан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учшее, что есть в жизни человека,- это его __________ с другими людьми.(Кан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8d3e"/>
                </a:solidFill>
                <a:latin typeface="Verdana"/>
              </a:rPr>
              <a:t>Паломничеств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м объектом паломничества христиан является _______ в городе 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мусульман чрезвычайно важно паломничество в город 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удеи главной своей святыней считают город _____, храм, который получил название 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ломничества в буддизме ( _____) начались с поклонения останкам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8d3e"/>
                </a:solidFill>
                <a:latin typeface="Verdana"/>
              </a:rPr>
              <a:t>Религиозные праздники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иудаизма -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христиан -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мусульман- 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ый важный праздник буддистов- 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ерантность (Терпимост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 с помощью трех имен прилагательных объясните, каким должен быть человек, обладающий этим качеством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двух глаголов объясните, каким должен быть человек, обладающий этим качеств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 виде предложения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лерантность- это свойство характера человека, позволяющее ему быть __________ , уметь _________   с существованием чего-либо, кого-либо, быть ___________ к чему-либо, кому-либ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ключевого слова  в виде имени существительного сделайте вывод : что такое толерантност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8d3e"/>
                </a:solidFill>
                <a:latin typeface="Verdana"/>
              </a:rPr>
              <a:t>Выдержка, примирение, великодушие, снисходительность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ерантность (Терпимост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 с помощью трех имен прилагательных объясните, каким должен быть человек, обладающий этим качеством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нисходительный, великодушный, милосерд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двух глаголов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щает, принимае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 виде предложения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лерантность- это свойство характера человека, позволяющее ему быть выдержанным , уметь  мириться  с существованием чего-либо, кого-либо, быть снисходительным к чему-либо, кому-либ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ключевого слова  в виде имени существительного сделайте вывод : что такое толерантнос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4:54:28Z</dcterms:created>
  <dc:creator>admin</dc:creator>
  <dc:description/>
  <dc:language>en-US</dc:language>
  <cp:lastModifiedBy>Людмила</cp:lastModifiedBy>
  <dcterms:modified xsi:type="dcterms:W3CDTF">2013-04-12T06:00:49Z</dcterms:modified>
  <cp:revision>40</cp:revision>
  <dc:subject/>
  <dc:title>ТОЛЕРАНТНОСТЬ -ТЕРПИМОСТЬ</dc:title>
</cp:coreProperties>
</file>